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7F16-B2B9-4EA9-88ED-D6F2F97AF37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E3BB-E07D-49E7-8D31-DD90BE14446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BB1E-A82D-4416-8FB4-3996F075E26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E353-D472-453F-892B-816B354A44D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DCCB-6F9D-4D27-B721-8EAE73C3245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4082-3B9E-4354-B47B-54B70600AA1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17AC-77F3-4D81-B38D-800CD9EB620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14E5-2374-4BFA-ABB0-10A9B3AACAC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A5B9-4AA9-4E74-9FB8-51B0D4FB71F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A72D-E4A4-437E-BCC3-BE05BDC9E20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8118-8142-4D57-A078-012078F5D70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F581-FD10-4963-A973-E53753CA5D7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18F9-0FF0-4D5E-86F3-A6ABEFBE185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21BD-2876-4581-A220-58C296B8414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AA62-A3D2-4A47-8F5A-61837C8E87C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82D6-6104-4992-83E4-58E20B2B81B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518B-10FD-4C07-AC3F-D729DF638F2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A980-90E6-42EF-ACB6-CA236E69C4B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C8F3-5E4F-4C78-BBFE-0C2C71DBBA0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F9B9-1AA4-4157-BF3D-9213CDA1F69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314-28B3-4ADC-89A2-8C0DB716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72E-071C-4D3E-815B-65479B88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B9E-FB70-4B67-908F-6E09FA89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92D-2F85-427B-ACB0-E922079C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082-468C-4BC9-AA0D-321AAFA5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ED7-26AD-4124-80D9-0AE0FE35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890-5262-426B-86E6-A8500939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638-F4B3-4FCE-AF79-2C7E87C2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344-BB75-4C3D-9330-9A4FBEAC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6E9-CA1A-4C48-8191-198AB55D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093-6CB8-4BF4-BC89-B909A55C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A66-DFFA-4689-A33F-D150AAE0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0389-E05D-4944-8C5A-DBAEA8E03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UTNOVI AKSIOMI MEHA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SIO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INER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ostaje u stanju mirovanja ili jednolikog pravolinijskog kret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dok delovanje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e ne bude prinuđeno da to stanje prome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I NJUTN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a količine ktretanja tela (materijalne tačke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orcionalna je sili koja deluje na tel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rši se u prav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mer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ovanja sil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 mase materijalne tačke i njenog ubrz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 intenzitet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u i smer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i koja deluje na 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87280" y="4941720"/>
          <a:ext cx="3745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41720"/>
                    <a:ext cx="3745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30240" y="2133720"/>
                <a:ext cx="2448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4"/>
          <p:cNvSpPr/>
          <p:nvPr/>
        </p:nvSpPr>
        <p:spPr>
          <a:xfrm>
            <a:off x="3059280" y="2492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Impulsni mome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IMER-Kružno kretanje pod uticajem sile F=F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539640" y="1844640"/>
                <a:ext cx="5183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539640" y="2639880"/>
                <a:ext cx="518328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R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-  </m:t>
                    </m:r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;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16"/>
          <p:cNvSpPr/>
          <p:nvPr/>
        </p:nvSpPr>
        <p:spPr>
          <a:xfrm>
            <a:off x="2987640" y="54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četni u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50072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ona 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5148360" y="2205000"/>
          <a:ext cx="3609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60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684360" y="1601640"/>
                <a:ext cx="277812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/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6"/>
          <p:cNvGraphicFramePr/>
          <p:nvPr/>
        </p:nvGraphicFramePr>
        <p:xfrm>
          <a:off x="5435640" y="1628640"/>
          <a:ext cx="302580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302580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2"/>
          <p:cNvGraphicFramePr/>
          <p:nvPr/>
        </p:nvGraphicFramePr>
        <p:xfrm>
          <a:off x="6372360" y="4437000"/>
          <a:ext cx="187164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437000"/>
                    <a:ext cx="1871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8"/>
          <p:cNvSpPr/>
          <p:nvPr/>
        </p:nvSpPr>
        <p:spPr>
          <a:xfrm>
            <a:off x="2411280" y="6237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Zakon o promeni kinetičk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00360" y="3213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lementarni rad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6"/>
              <p:cNvSpPr txBox="1"/>
              <p:nvPr/>
            </p:nvSpPr>
            <p:spPr>
              <a:xfrm>
                <a:off x="4067280" y="4941720"/>
                <a:ext cx="23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826920" y="1701720"/>
          <a:ext cx="7704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704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2124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Kinetička energi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3059280" y="1488960"/>
          <a:ext cx="244944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8960"/>
                    <a:ext cx="24494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1187280" y="3860640"/>
                <a:ext cx="316872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ul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1 J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15"/>
          <p:cNvGraphicFramePr/>
          <p:nvPr/>
        </p:nvGraphicFramePr>
        <p:xfrm>
          <a:off x="4572000" y="2205000"/>
          <a:ext cx="4292640" cy="43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29264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187280" y="1773360"/>
                <a:ext cx="1513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m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826920" y="2565360"/>
                <a:ext cx="770436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d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y {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d>
                    <m:r>
                      <m:rPr>
                        <m:lit/>
                        <m:nor/>
                      </m:rPr>
                      <m:t xml:space="preserve">   ako 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dz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d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75564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755640" y="3573360"/>
                <a:ext cx="720108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4"/>
          <p:cNvSpPr/>
          <p:nvPr/>
        </p:nvSpPr>
        <p:spPr>
          <a:xfrm>
            <a:off x="755640" y="1700280"/>
            <a:ext cx="8137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rad sile ne zavisi od oblika putanje po kojoj se vrši kretanje već samo zavisi od početnog i krajnjeg položaja, tada se takva sila naziva konzervativnom silom. Rad sile u tom slučaju predstavlja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otalni diferencijal skalarne fun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ož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755640" y="2637000"/>
                <a:ext cx="489744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755640" y="1700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ila bila konzervativna koordinate vektora sile moraju biti izražene preko odgovarajućih izvoda jedne iste funkcije polo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27280" y="407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tencijal polja sile (potencijalja energija m. tač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e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826920" y="2311560"/>
          <a:ext cx="56167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11560"/>
                    <a:ext cx="561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755640" y="170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 poljem sile podrazumevamo prostor u kome deluje s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3500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 matematike, ako je f=f(x,y,z) – skalarna funkcija, tada je gradijent funkcije 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826920" y="4365720"/>
                <a:ext cx="39592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ad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44500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a kreće u polju konzervativne sile, onda se ulaže sila na račun potencij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755640" y="1700280"/>
                <a:ext cx="66247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     III NJUTNOV ZAKON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AKCIJE I REAK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ajamni mehanički uticaji dvaju tela ispoljavaju se silama koje imaju isti intenzitet i pravac, a deluju u suprotnim smer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V NJUTNOV ZAKON (ZAKON O SLAGAN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a telo (materijalnu tačku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uju istovrameno dve sile, tada se telo (tačka) kreće opisujući dijagonalu paralelograma konstruisanog nad tim silama kao vekto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dT=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→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Zakon o održanju energ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+U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prvi zadtatak ISPUS21okt04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826920" y="4437000"/>
                <a:ext cx="4464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  ;  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  ;  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;  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-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611280" y="2997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Njutnov zakon važi u odnosu na inercijalni koordinatni si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03280" y="249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nta svih sila koje deluju na materijalnu ta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DEKARTOV KOORDINAT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D.J. Kretan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971640" y="1413000"/>
                <a:ext cx="1412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500040" y="2143080"/>
          <a:ext cx="302256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30225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3635280" y="551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četni u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26828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RODNE KOORDI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284720" y="2060640"/>
          <a:ext cx="410364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060640"/>
                    <a:ext cx="41036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468360" y="1773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MER: Matematičko kla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84360" y="1700280"/>
                <a:ext cx="5327640" cy="30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m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684360" y="47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F=const ili F=F(t), tada se gornji integral može izraču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900000" y="1754280"/>
          <a:ext cx="66247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54280"/>
                    <a:ext cx="66247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900000" y="3571920"/>
          <a:ext cx="693900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71920"/>
                    <a:ext cx="693900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2"/>
          <p:cNvPicPr/>
          <p:nvPr/>
        </p:nvPicPr>
        <p:blipFill>
          <a:blip r:embed="rId1"/>
          <a:srcRect l="18565" t="24289" r="3795" b="19184"/>
          <a:stretch/>
        </p:blipFill>
        <p:spPr>
          <a:xfrm>
            <a:off x="3492360" y="4076640"/>
            <a:ext cx="5435640" cy="2479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826920" y="1557360"/>
                <a:ext cx="136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826920" y="2133720"/>
                <a:ext cx="365760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820800" y="1989000"/>
                <a:ext cx="3849480" cy="410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8"/>
          <p:cNvSpPr/>
          <p:nvPr/>
        </p:nvSpPr>
        <p:spPr>
          <a:xfrm>
            <a:off x="3492360" y="4653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diferencijal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5445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količine kretanja (inercijalni mo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0"/>
          <p:cNvGraphicFramePr/>
          <p:nvPr/>
        </p:nvGraphicFramePr>
        <p:xfrm>
          <a:off x="4788000" y="1413000"/>
          <a:ext cx="35272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35272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68360" y="2060640"/>
                <a:ext cx="377352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bSup>
                          </m:sub>
                          <m:sup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sup>
                          <m:e>
                            <m:r>
                              <m:t xml:space="preserve">d</m:t>
                            </m:r>
                          </m:e>
                        </m:nary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</m:e>
                    </m:eqAr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428472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konač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5805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je funkcija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2T07:51:02Z</dcterms:modified>
  <cp:revision>145</cp:revision>
  <dc:subject/>
  <dc:title>ТЕХНИЧКА МЕХАНИКА 2</dc:title>
</cp:coreProperties>
</file>